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CA47-69E5-4078-85A8-B217DF135C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bjectifs prioritaires de ce projet de rencontre es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e faire jouer des enfants de cycle 2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ans le respect d’une règle jo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enfants s’affronteront en équipes constitué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En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ans l’RP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Sur plusieurs éc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ucun challenge  n’est mis en jeu: « jouer pour le plaisir de jouer 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36F5-C8EC-467E-9A81-C5AAC7CDF3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ont présentes notions de coopération et d’op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e nombreuses classifications existent. Les critères peuvent êtr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es actions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: jeux d’rattrape – jeux de transport d’objets- jeux de ball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es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67CE-BF96-4D7F-8BA2-AB3859DE52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ont présentes notions de coopération et d’op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e nombreuses classifications existent. Les critères peuvent êtr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es actions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: jeux d’rattrape – jeux de transport d’objets- jeux de ball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es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Jeux dans lesquels la dimension collective n’apparaît p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faut simplement être plusieurs pour mettre le jeu en place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on joue seul contre les aut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 : le cercle honte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Jeux de group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joueurs ont un comportement identiqu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: ils ont à réagir à un danger commun qui les menace t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as de coopération nécessaire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our atteindre le but du je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suffit simplement de ne pas se faire attr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: chat/souris, minuit dans la berger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2C5C-1019-4FEB-9B48-EB3AA10BB8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</a:rPr>
              <a:t>Jeux où deux équipes s’affrontent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 u="sng">
                <a:solidFill>
                  <a:srgbClr val="000000"/>
                </a:solidFill>
                <a:uFillTx/>
                <a:latin typeface="Calibri"/>
              </a:rPr>
              <a:t>Dans une opposition indirec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- le résultat est obtenu par l’addition des actions individuelles des joueur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ex : jeux de relais, les déménageurs (sans oppositio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buClr>
                <a:srgbClr val="000000"/>
              </a:buClr>
              <a:buFont typeface="Calibri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 u="sng">
                <a:solidFill>
                  <a:srgbClr val="000000"/>
                </a:solidFill>
                <a:uFillTx/>
                <a:latin typeface="Calibri"/>
              </a:rPr>
              <a:t>Avec des droits et des devoirs différ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La coopération est aléatoire (elle dépend du niveau des joueur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Cela peut aller de la simple cohabitation à une coordination très poussé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Ex: gendarmes et voleur, balle aux chasseur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buClr>
                <a:srgbClr val="000000"/>
              </a:buClr>
              <a:buFont typeface="Calibri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 u="sng">
                <a:solidFill>
                  <a:srgbClr val="000000"/>
                </a:solidFill>
                <a:uFillTx/>
                <a:latin typeface="Calibri"/>
              </a:rPr>
              <a:t>Avec des droits et des devoirs identiqu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-   Balle au prisonnier (l’espace n’est pas interpénétré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-   Balle au  capitaine (l’espace et interpénétrer et orienter ou no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000000"/>
                </a:solidFill>
                <a:latin typeface="Calibri"/>
              </a:rPr>
              <a:t>Rares sont les jeux ou la coopération est obligatoire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: au foot je peux marquer seu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000000"/>
                </a:solidFill>
                <a:latin typeface="Calibri"/>
              </a:rPr>
              <a:t>Coopération obligée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- un exemple les déménageurs qui doivent se passer des objets par-dessus la rivière pour les mettre dans leur cam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- la chaîne des pompier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3746-E8CF-4B35-B92B-934D2A9BBF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L’ENSEIGNANT DOIT BIEN CONNAÎTRE LE JEU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Le but du jeu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Les règles du jeu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Le pourquoi : On choisit un jeu parce qu’on vise un objectif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On cherche des jeux complémentaires pour renforcer les acquisitions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On choisit des jeux dynamiques pour jouer vraiment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2- IL LUI FAUT PRÉVOIR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a- Une bonne organisation matérielle 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préparer le matériel nécessair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matérialiser l’espace de jeu (cônes, plots, marquage à la craie…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délimiter une aire de regroupemen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différencier les équipes ou les joueurs (dossards, foulards…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elle doit permettre un temps d’activité important : ‘dédoubler les dispositifs, en petits effectifs = jeu plus fluide et réelle participation de tous à travers la répétition des cations et gestes moteurs visés (passes, réception, démarquage, esquive, feinte…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b- Des équipes de force égale (pour respecter les chances) 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hétérogènes ou homogènes dont les critères de composition relèvent 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de l’affectivité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et/ou du niveau d’habileté motrice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3- PRÉSENTER LES RÈGLES MINIMALES 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La règle est donnée sous la forme de consignes orales ; ne donner qu’un minimum de règles qui permet 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une entrée rapide dans le jeu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une compréhension immédiate du BUT du jeu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4- LAISSER JOUER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a- Laisser jouer globalement 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Pour l’enseignant, c’est le temps d’observer 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les réponses des enfants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les difficultés relationnelles, liées à la prise d’information, liées aux savoir-faire…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Pour l’enfant, c’est le temps de 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s’adapter aux règles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prendre conscience de l’existence de certaines difficultés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percevoir l’enjeu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b- Préciser, compléter les règles avant une nouvelle phase de jeu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Les règles seront introduites conformes à la logique du jeu et ne seront introduites qu’au fur et à mesure de leur nécessité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Peut également venir de la part des enfants face à des problèmes de comportements, d’actions, qui nuisent au bon déroulement du jeu : des 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propositions peuvent être faites par les élèves, testées et adoptées si elles s’avèrent efficaces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c- Préserver un temps d’activité « suffisant »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Le temps de jeu doit être plus long que le temps de discussion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Les jeux à élimination raccourcissent le temps d’activité des enfants qui ont le plus besoin d’entraînement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5- ANALYSER (en fin de séance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La discussion avec les enfants peut porter sur 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le respect des règles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les comportements individuels ou collectifs (but à atteindre et rôle de chacun)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les actions à valorise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les progrès nécessair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les résultats (à relativiser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- la composition des équipes…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Calibri"/>
              </a:rPr>
              <a:t>Cette discussion aboutit sur un aménagement de la situation de départ pour la séance suivante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(modification/ajout de règles, en jouant sur un ou plusieurs paramètres de variabilité du jeu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7DD6-8F6A-4EEC-A836-335AFDBCDD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E512-CC78-44E7-8972-9068912A33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Calibri"/>
              </a:rPr>
              <a:t>Pourquoi des jeu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Calibri"/>
              </a:rPr>
              <a:t>Naturellement, l’enfant se façonne en jouant seul ou avec les autres, ce qui le conduit à construire progressivement des compétences motrices, sociales et civ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Calibri"/>
              </a:rPr>
              <a:t>Ces jeux permetten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ff0000"/>
                </a:solidFill>
                <a:latin typeface="Calibri"/>
              </a:rPr>
              <a:t>d’éprouver des émotions dans une activité qui a un sens pour lu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ff0000"/>
                </a:solidFill>
                <a:latin typeface="Calibri"/>
              </a:rPr>
              <a:t>de construire sa motricité dans l’a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ff0000"/>
                </a:solidFill>
                <a:latin typeface="Calibri"/>
              </a:rPr>
              <a:t>de repérer et évaluer des progrè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fr-FR" sz="1200" spc="-1" strike="noStrike">
                <a:solidFill>
                  <a:srgbClr val="ff0000"/>
                </a:solidFill>
                <a:latin typeface="Calibri"/>
              </a:rPr>
              <a:t>de s’enrichir des relations construites avec les autres (respect de l’intégrité physique de l’autre, échanges verbaux…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Calibri"/>
              </a:rPr>
              <a:t>réfléchir (seul ou en groupe) à des stratégies qu’il pourra expériment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ff0000"/>
                </a:solidFill>
                <a:latin typeface="Calibri"/>
              </a:rPr>
              <a:t>de construire des comportements de plus en plus sécurisants en agissant à partir d’informations plus précises, et plus pertinen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8437-28E2-4E9D-82A7-0DFD01AF9E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ssence des jeux collectif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95EE-AFCE-4C7A-A42A-CFA1AF983C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ticiper à un jeu traditionnel/collectif c’es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ésoudre seul ou à plusieurs (agir – coopérer – s’oppos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es problèmes posés par des déplacements (de joueurs, d’objets), pour atteindre un but (cible, esp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 respectant des règles (espace, action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AB96-FD6D-4C75-B819-5F15777AD9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our donner du sens à cette activité, l’enseignant propos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n JEU avec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BUT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(comment marquer des points, comment gag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CONFIGURATION SPATIO-TEMPORELLE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éfi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space déterminé et identifié (zones de jeu, d’en but, dimens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de j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e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, autorisées ou pas (réponses motrices origina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e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RELATIONS à METTRE EN ŒUVRE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organisation sociale particulière, réglée par des                                                                             relations  de coopération et d’opposition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A859-449C-46DC-8B34-40D79E2890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our cela l’élève devra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’adapter à une/ des rè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prendre /respecter pour pouvoir jouer, et en sécurit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onnaître ses partenaires /ses adversa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&gt; Identifier, assumer un rôle /identifier le vainque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gir /réagir au sein du grou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&gt; S’organiser / comprendre une organi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écider / faire des choix dans l’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&gt; aller vers la cible, être aidé / coopé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nstruire des habiletés spécifiques, des réponses motrices particuliè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&gt; Frapper pour tirer, passer, avancer / courir, éviter, toucher, attraper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7338-9510-4407-B7A4-92F0D76A55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jeux traditionnels ou collectifs ainsi que les sports collectifs permettent d’aborder les compétences spécifiques suivantes des programmes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5164-CD3B-44C1-8BB7-158AB87863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jeux co aident à construire d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letés motr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attitu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méthod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AE70-F231-4CFD-A514-F30B9242BD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EBB-A67B-4818-9B30-FF1FBCE6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7DD-0584-4686-ABFD-052556BA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039-02C7-4491-BD09-AB855BC9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AF9-547D-4AC1-9700-29224903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5CE-26A6-43FB-A220-DC877D50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433-AAC4-4F43-9D70-A0E5D0DC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05A-80AB-4199-8CD9-AFB8244B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1E6-1732-4394-9D6B-84E1BB2A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63B-6466-4C73-A3DD-2EF76773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007-7DDE-4E56-A896-9D9D2C53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E20-8B40-4F2A-9A98-07D7C5FE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CD5-46B9-4AD8-8CC0-B04852A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B721-ABE5-4E55-A66D-76FC0E989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1"/>
          <p:cNvSpPr/>
          <p:nvPr/>
        </p:nvSpPr>
        <p:spPr>
          <a:xfrm>
            <a:off x="755640" y="2536920"/>
            <a:ext cx="7632720" cy="13129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Comic Sans MS"/>
              </a:rPr>
              <a:t>Jeux traditionnels au Cycl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Comic Sans MS"/>
              </a:rPr>
              <a:t>Une rencont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 rot="20092800">
            <a:off x="641520" y="547200"/>
            <a:ext cx="1360440" cy="157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989440" y="4186080"/>
            <a:ext cx="2446200" cy="1839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 rot="1808400">
            <a:off x="6900840" y="555120"/>
            <a:ext cx="1317600" cy="160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3870360" y="476280"/>
            <a:ext cx="12589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oneTexte 2"/>
          <p:cNvSpPr/>
          <p:nvPr/>
        </p:nvSpPr>
        <p:spPr>
          <a:xfrm>
            <a:off x="1332000" y="2781360"/>
            <a:ext cx="6553080" cy="7034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Comic Sans MS"/>
              </a:rPr>
              <a:t>Classification des je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e 3"/>
          <p:cNvGrpSpPr/>
          <p:nvPr/>
        </p:nvGrpSpPr>
        <p:grpSpPr>
          <a:xfrm>
            <a:off x="324000" y="1052640"/>
            <a:ext cx="3456000" cy="1296720"/>
            <a:chOff x="324000" y="1052640"/>
            <a:chExt cx="3456000" cy="1296720"/>
          </a:xfrm>
        </p:grpSpPr>
        <p:sp>
          <p:nvSpPr>
            <p:cNvPr id="103" name="Rectangle à coins arrondis 2"/>
            <p:cNvSpPr/>
            <p:nvPr/>
          </p:nvSpPr>
          <p:spPr>
            <a:xfrm>
              <a:off x="324000" y="1052640"/>
              <a:ext cx="3456000" cy="1296720"/>
            </a:xfrm>
            <a:prstGeom prst="roundRect">
              <a:avLst>
                <a:gd name="adj" fmla="val 16667"/>
              </a:avLst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"/>
            <p:cNvSpPr/>
            <p:nvPr/>
          </p:nvSpPr>
          <p:spPr>
            <a:xfrm>
              <a:off x="396000" y="1124640"/>
              <a:ext cx="338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Jeux dans lesquels la dimension collective n’apparaît p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e 23"/>
          <p:cNvGrpSpPr/>
          <p:nvPr/>
        </p:nvGrpSpPr>
        <p:grpSpPr>
          <a:xfrm>
            <a:off x="755640" y="2637000"/>
            <a:ext cx="2879640" cy="3177360"/>
            <a:chOff x="755640" y="2637000"/>
            <a:chExt cx="2879640" cy="3177360"/>
          </a:xfrm>
        </p:grpSpPr>
        <p:grpSp>
          <p:nvGrpSpPr>
            <p:cNvPr id="106" name="Groupe 28"/>
            <p:cNvGrpSpPr/>
            <p:nvPr/>
          </p:nvGrpSpPr>
          <p:grpSpPr>
            <a:xfrm>
              <a:off x="755640" y="3934080"/>
              <a:ext cx="2879640" cy="1880280"/>
              <a:chOff x="755640" y="3934080"/>
              <a:chExt cx="2879640" cy="1880280"/>
            </a:xfrm>
          </p:grpSpPr>
          <p:sp>
            <p:nvSpPr>
              <p:cNvPr id="107" name="Rectangle à coins arrondis 10"/>
              <p:cNvSpPr/>
              <p:nvPr/>
            </p:nvSpPr>
            <p:spPr>
              <a:xfrm>
                <a:off x="755640" y="3934080"/>
                <a:ext cx="2664000" cy="18716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e 9"/>
              <p:cNvGrpSpPr/>
              <p:nvPr/>
            </p:nvGrpSpPr>
            <p:grpSpPr>
              <a:xfrm>
                <a:off x="755640" y="3934080"/>
                <a:ext cx="2879640" cy="1880280"/>
                <a:chOff x="755640" y="3934080"/>
                <a:chExt cx="2879640" cy="1880280"/>
              </a:xfrm>
            </p:grpSpPr>
            <p:sp>
              <p:nvSpPr>
                <p:cNvPr id="109" name="ZoneTexte 6"/>
                <p:cNvSpPr/>
                <p:nvPr/>
              </p:nvSpPr>
              <p:spPr>
                <a:xfrm>
                  <a:off x="755640" y="4932720"/>
                  <a:ext cx="287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Les écureuils en cag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ZoneTexte 4"/>
                <p:cNvSpPr/>
                <p:nvPr/>
              </p:nvSpPr>
              <p:spPr>
                <a:xfrm>
                  <a:off x="755640" y="3934080"/>
                  <a:ext cx="2290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Quitter sa mais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ZoneTexte 5"/>
                <p:cNvSpPr/>
                <p:nvPr/>
              </p:nvSpPr>
              <p:spPr>
                <a:xfrm>
                  <a:off x="755640" y="4438080"/>
                  <a:ext cx="2683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Les chaises mus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ZoneTexte 7"/>
                <p:cNvSpPr/>
                <p:nvPr/>
              </p:nvSpPr>
              <p:spPr>
                <a:xfrm>
                  <a:off x="755640" y="5446080"/>
                  <a:ext cx="2290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Le cercle honteu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Flèche droite 11"/>
            <p:cNvSpPr/>
            <p:nvPr/>
          </p:nvSpPr>
          <p:spPr>
            <a:xfrm rot="5400000">
              <a:off x="1619640" y="2925000"/>
              <a:ext cx="863640" cy="28728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e 16"/>
          <p:cNvGrpSpPr/>
          <p:nvPr/>
        </p:nvGrpSpPr>
        <p:grpSpPr>
          <a:xfrm>
            <a:off x="5292720" y="1052640"/>
            <a:ext cx="3457440" cy="647640"/>
            <a:chOff x="5292720" y="1052640"/>
            <a:chExt cx="3457440" cy="647640"/>
          </a:xfrm>
        </p:grpSpPr>
        <p:sp>
          <p:nvSpPr>
            <p:cNvPr id="115" name="Rectangle à coins arrondis 14"/>
            <p:cNvSpPr/>
            <p:nvPr/>
          </p:nvSpPr>
          <p:spPr>
            <a:xfrm>
              <a:off x="5292720" y="1052640"/>
              <a:ext cx="3457440" cy="647640"/>
            </a:xfrm>
            <a:prstGeom prst="roundRect">
              <a:avLst>
                <a:gd name="adj" fmla="val 16667"/>
              </a:avLst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5364720" y="1124280"/>
              <a:ext cx="33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Jeux de grou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e 24"/>
          <p:cNvGrpSpPr/>
          <p:nvPr/>
        </p:nvGrpSpPr>
        <p:grpSpPr>
          <a:xfrm>
            <a:off x="5867280" y="2637000"/>
            <a:ext cx="2952720" cy="3178080"/>
            <a:chOff x="5867280" y="2637000"/>
            <a:chExt cx="2952720" cy="3178080"/>
          </a:xfrm>
        </p:grpSpPr>
        <p:grpSp>
          <p:nvGrpSpPr>
            <p:cNvPr id="118" name="Groupe 30"/>
            <p:cNvGrpSpPr/>
            <p:nvPr/>
          </p:nvGrpSpPr>
          <p:grpSpPr>
            <a:xfrm>
              <a:off x="5867280" y="3934080"/>
              <a:ext cx="2952720" cy="1881000"/>
              <a:chOff x="5867280" y="3934080"/>
              <a:chExt cx="2952720" cy="1881000"/>
            </a:xfrm>
          </p:grpSpPr>
          <p:sp>
            <p:nvSpPr>
              <p:cNvPr id="119" name="Rectangle à coins arrondis 18"/>
              <p:cNvSpPr/>
              <p:nvPr/>
            </p:nvSpPr>
            <p:spPr>
              <a:xfrm>
                <a:off x="5867280" y="3943440"/>
                <a:ext cx="2808360" cy="18716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e 9"/>
              <p:cNvGrpSpPr/>
              <p:nvPr/>
            </p:nvGrpSpPr>
            <p:grpSpPr>
              <a:xfrm>
                <a:off x="5939280" y="3934080"/>
                <a:ext cx="2880720" cy="1880280"/>
                <a:chOff x="5939280" y="3934080"/>
                <a:chExt cx="2880720" cy="1880280"/>
              </a:xfrm>
            </p:grpSpPr>
            <p:sp>
              <p:nvSpPr>
                <p:cNvPr id="121" name="ZoneTexte 21"/>
                <p:cNvSpPr/>
                <p:nvPr/>
              </p:nvSpPr>
              <p:spPr>
                <a:xfrm>
                  <a:off x="5939280" y="4932720"/>
                  <a:ext cx="288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Minuit dans la bergeri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ZoneTexte 22"/>
                <p:cNvSpPr/>
                <p:nvPr/>
              </p:nvSpPr>
              <p:spPr>
                <a:xfrm>
                  <a:off x="5939280" y="3934080"/>
                  <a:ext cx="229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Chat baissé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ZoneTexte 23"/>
                <p:cNvSpPr/>
                <p:nvPr/>
              </p:nvSpPr>
              <p:spPr>
                <a:xfrm>
                  <a:off x="5939280" y="4438080"/>
                  <a:ext cx="2684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Les bons refug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ZoneTexte 24"/>
                <p:cNvSpPr/>
                <p:nvPr/>
              </p:nvSpPr>
              <p:spPr>
                <a:xfrm>
                  <a:off x="5939280" y="5446080"/>
                  <a:ext cx="2448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Accroche /décroch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" name="Flèche droite 20"/>
            <p:cNvSpPr/>
            <p:nvPr/>
          </p:nvSpPr>
          <p:spPr>
            <a:xfrm rot="5400000">
              <a:off x="6876000" y="2925000"/>
              <a:ext cx="863640" cy="28728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e 3"/>
          <p:cNvGrpSpPr/>
          <p:nvPr/>
        </p:nvGrpSpPr>
        <p:grpSpPr>
          <a:xfrm>
            <a:off x="2843280" y="404640"/>
            <a:ext cx="3457440" cy="897480"/>
            <a:chOff x="2843280" y="404640"/>
            <a:chExt cx="3457440" cy="897480"/>
          </a:xfrm>
        </p:grpSpPr>
        <p:sp>
          <p:nvSpPr>
            <p:cNvPr id="127" name="Rectangle à coins arrondis 1"/>
            <p:cNvSpPr/>
            <p:nvPr/>
          </p:nvSpPr>
          <p:spPr>
            <a:xfrm>
              <a:off x="2843280" y="404640"/>
              <a:ext cx="3457440" cy="864000"/>
            </a:xfrm>
            <a:prstGeom prst="roundRect">
              <a:avLst>
                <a:gd name="adj" fmla="val 16667"/>
              </a:avLst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"/>
            <p:cNvSpPr/>
            <p:nvPr/>
          </p:nvSpPr>
          <p:spPr>
            <a:xfrm>
              <a:off x="2915280" y="476640"/>
              <a:ext cx="338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Jeux où deux équipes s’affront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à coins arrondis 5"/>
          <p:cNvSpPr/>
          <p:nvPr/>
        </p:nvSpPr>
        <p:spPr>
          <a:xfrm>
            <a:off x="179280" y="4581360"/>
            <a:ext cx="2665440" cy="1872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468360" y="5516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Déménageurs sans op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10"/>
          <p:cNvSpPr/>
          <p:nvPr/>
        </p:nvSpPr>
        <p:spPr>
          <a:xfrm>
            <a:off x="468360" y="4869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Jeux de rel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e 13"/>
          <p:cNvGrpSpPr/>
          <p:nvPr/>
        </p:nvGrpSpPr>
        <p:grpSpPr>
          <a:xfrm>
            <a:off x="3203640" y="4581360"/>
            <a:ext cx="2952720" cy="1872000"/>
            <a:chOff x="3203640" y="4581360"/>
            <a:chExt cx="2952720" cy="1872000"/>
          </a:xfrm>
        </p:grpSpPr>
        <p:sp>
          <p:nvSpPr>
            <p:cNvPr id="133" name="Rectangle à coins arrondis 14"/>
            <p:cNvSpPr/>
            <p:nvPr/>
          </p:nvSpPr>
          <p:spPr>
            <a:xfrm>
              <a:off x="3203640" y="4581360"/>
              <a:ext cx="2665440" cy="1872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e 9"/>
            <p:cNvGrpSpPr/>
            <p:nvPr/>
          </p:nvGrpSpPr>
          <p:grpSpPr>
            <a:xfrm>
              <a:off x="3275640" y="4652640"/>
              <a:ext cx="2880720" cy="1583640"/>
              <a:chOff x="3275640" y="4652640"/>
              <a:chExt cx="2880720" cy="1583640"/>
            </a:xfrm>
          </p:grpSpPr>
          <p:sp>
            <p:nvSpPr>
              <p:cNvPr id="135" name="ZoneTexte 8"/>
              <p:cNvSpPr/>
              <p:nvPr/>
            </p:nvSpPr>
            <p:spPr>
              <a:xfrm>
                <a:off x="3275640" y="5868000"/>
                <a:ext cx="28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Les drapeau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ZoneTexte 9"/>
              <p:cNvSpPr/>
              <p:nvPr/>
            </p:nvSpPr>
            <p:spPr>
              <a:xfrm>
                <a:off x="3275640" y="4652640"/>
                <a:ext cx="229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Les sorci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ZoneTexte 10"/>
              <p:cNvSpPr/>
              <p:nvPr/>
            </p:nvSpPr>
            <p:spPr>
              <a:xfrm>
                <a:off x="3275640" y="5291640"/>
                <a:ext cx="2684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Gendarmes et voleu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e 20"/>
          <p:cNvGrpSpPr/>
          <p:nvPr/>
        </p:nvGrpSpPr>
        <p:grpSpPr>
          <a:xfrm>
            <a:off x="6299280" y="4572000"/>
            <a:ext cx="2757240" cy="1871640"/>
            <a:chOff x="6299280" y="4572000"/>
            <a:chExt cx="2757240" cy="1871640"/>
          </a:xfrm>
        </p:grpSpPr>
        <p:sp>
          <p:nvSpPr>
            <p:cNvPr id="139" name="Rectangle à coins arrondis 21"/>
            <p:cNvSpPr/>
            <p:nvPr/>
          </p:nvSpPr>
          <p:spPr>
            <a:xfrm>
              <a:off x="6299280" y="4572000"/>
              <a:ext cx="2666880" cy="1871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e 9"/>
            <p:cNvGrpSpPr/>
            <p:nvPr/>
          </p:nvGrpSpPr>
          <p:grpSpPr>
            <a:xfrm>
              <a:off x="6371280" y="4715640"/>
              <a:ext cx="2685240" cy="1457640"/>
              <a:chOff x="6371280" y="4715640"/>
              <a:chExt cx="2685240" cy="1457640"/>
            </a:xfrm>
          </p:grpSpPr>
          <p:sp>
            <p:nvSpPr>
              <p:cNvPr id="141" name="ZoneTexte 9"/>
              <p:cNvSpPr/>
              <p:nvPr/>
            </p:nvSpPr>
            <p:spPr>
              <a:xfrm>
                <a:off x="6371280" y="4715640"/>
                <a:ext cx="2292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Balle au prisonni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ZoneTexte 10"/>
              <p:cNvSpPr/>
              <p:nvPr/>
            </p:nvSpPr>
            <p:spPr>
              <a:xfrm>
                <a:off x="6371280" y="5291640"/>
                <a:ext cx="268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Passe à 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ZoneTexte 11"/>
              <p:cNvSpPr/>
              <p:nvPr/>
            </p:nvSpPr>
            <p:spPr>
              <a:xfrm>
                <a:off x="6371280" y="5805000"/>
                <a:ext cx="244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Balle au capitai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e 34"/>
          <p:cNvGrpSpPr/>
          <p:nvPr/>
        </p:nvGrpSpPr>
        <p:grpSpPr>
          <a:xfrm>
            <a:off x="826920" y="1740960"/>
            <a:ext cx="2521080" cy="2677680"/>
            <a:chOff x="826920" y="1740960"/>
            <a:chExt cx="2521080" cy="2677680"/>
          </a:xfrm>
        </p:grpSpPr>
        <p:sp>
          <p:nvSpPr>
            <p:cNvPr id="145" name="Flèche droite 7"/>
            <p:cNvSpPr/>
            <p:nvPr/>
          </p:nvSpPr>
          <p:spPr>
            <a:xfrm rot="6840600">
              <a:off x="828720" y="2918520"/>
              <a:ext cx="2787840" cy="322200"/>
            </a:xfrm>
            <a:prstGeom prst="rightArrow">
              <a:avLst>
                <a:gd name="adj1" fmla="val 50000"/>
                <a:gd name="adj2" fmla="val 49992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ZoneTexte 9"/>
            <p:cNvSpPr/>
            <p:nvPr/>
          </p:nvSpPr>
          <p:spPr>
            <a:xfrm>
              <a:off x="826920" y="2709000"/>
              <a:ext cx="25210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Opposition indirec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e 35"/>
          <p:cNvGrpSpPr/>
          <p:nvPr/>
        </p:nvGrpSpPr>
        <p:grpSpPr>
          <a:xfrm>
            <a:off x="3492360" y="1773360"/>
            <a:ext cx="2087640" cy="2714400"/>
            <a:chOff x="3492360" y="1773360"/>
            <a:chExt cx="2087640" cy="2714400"/>
          </a:xfrm>
        </p:grpSpPr>
        <p:sp>
          <p:nvSpPr>
            <p:cNvPr id="148" name="Flèche droite 29"/>
            <p:cNvSpPr/>
            <p:nvPr/>
          </p:nvSpPr>
          <p:spPr>
            <a:xfrm rot="5400000">
              <a:off x="3197520" y="2969280"/>
              <a:ext cx="2714400" cy="322200"/>
            </a:xfrm>
            <a:prstGeom prst="rightArrow">
              <a:avLst>
                <a:gd name="adj1" fmla="val 50000"/>
                <a:gd name="adj2" fmla="val 5000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ZoneTexte 9"/>
            <p:cNvSpPr/>
            <p:nvPr/>
          </p:nvSpPr>
          <p:spPr>
            <a:xfrm>
              <a:off x="3492360" y="3285000"/>
              <a:ext cx="2087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Droits et devoi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différ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e 36"/>
          <p:cNvGrpSpPr/>
          <p:nvPr/>
        </p:nvGrpSpPr>
        <p:grpSpPr>
          <a:xfrm>
            <a:off x="5867280" y="1760040"/>
            <a:ext cx="2089440" cy="2677680"/>
            <a:chOff x="5867280" y="1760040"/>
            <a:chExt cx="2089440" cy="2677680"/>
          </a:xfrm>
        </p:grpSpPr>
        <p:sp>
          <p:nvSpPr>
            <p:cNvPr id="151" name="Flèche droite 28"/>
            <p:cNvSpPr/>
            <p:nvPr/>
          </p:nvSpPr>
          <p:spPr>
            <a:xfrm flipH="1" rot="14759400">
              <a:off x="5342760" y="2937600"/>
              <a:ext cx="2787840" cy="322200"/>
            </a:xfrm>
            <a:prstGeom prst="rightArrow">
              <a:avLst>
                <a:gd name="adj1" fmla="val 50000"/>
                <a:gd name="adj2" fmla="val 49992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ZoneTexte 9"/>
            <p:cNvSpPr/>
            <p:nvPr/>
          </p:nvSpPr>
          <p:spPr>
            <a:xfrm>
              <a:off x="5867280" y="2709360"/>
              <a:ext cx="2089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Droits et devoi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ident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ZoneTexte 1"/>
          <p:cNvSpPr/>
          <p:nvPr/>
        </p:nvSpPr>
        <p:spPr>
          <a:xfrm>
            <a:off x="611280" y="2781360"/>
            <a:ext cx="8208720" cy="13129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Comic Sans MS"/>
              </a:rPr>
              <a:t>L’essentiel pour conduire un j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24000" y="4046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70c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L’ENSEIGNANT DOIT BIEN CONNAÎTRE LE J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280" y="11160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2.IL LUI FAUT PRÉV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303280" y="16192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Une bonne organisation matéri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411280" y="219564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Des équipes de force égale (pour respecter les chanc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24000" y="2771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3.PRÉSENTER LES RÈGLES MINIM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475560" y="33480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4.LAISSER JO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343960" y="3924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Globa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2411280" y="4500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Compléter les règles avant une nouvelle phase de j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2448000" y="500364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Préserver un temps d’activité « suffisant 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83480" y="5724360"/>
            <a:ext cx="36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5.ANALYSER (en fin de sé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Bouton d'action : Suivant 12">
            <a:hlinkClick r:id="rId1" action="ppaction://hlinksldjump"/>
          </p:cNvPr>
          <p:cNvSpPr/>
          <p:nvPr/>
        </p:nvSpPr>
        <p:spPr>
          <a:xfrm>
            <a:off x="6588000" y="1628640"/>
            <a:ext cx="648000" cy="432000"/>
          </a:xfrm>
          <a:custGeom>
            <a:avLst/>
            <a:gdLst>
              <a:gd name="textAreaLeft" fmla="*/ 27720 w 648000"/>
              <a:gd name="textAreaRight" fmla="*/ 620280 w 64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91" h="21600">
                <a:moveTo>
                  <a:pt x="0" y="0"/>
                </a:moveTo>
                <a:lnTo>
                  <a:pt x="32391" y="0"/>
                </a:lnTo>
                <a:lnTo>
                  <a:pt x="32391" y="21600"/>
                </a:lnTo>
                <a:lnTo>
                  <a:pt x="0" y="21600"/>
                </a:lnTo>
                <a:close/>
              </a:path>
              <a:path fill="lightenLess" w="32391" h="21600">
                <a:moveTo>
                  <a:pt x="0" y="0"/>
                </a:moveTo>
                <a:lnTo>
                  <a:pt x="32391" y="0"/>
                </a:lnTo>
                <a:lnTo>
                  <a:pt x="30991" y="1400"/>
                </a:lnTo>
                <a:lnTo>
                  <a:pt x="1400" y="1400"/>
                </a:lnTo>
                <a:close/>
              </a:path>
              <a:path fill="darken" w="32391" h="21600">
                <a:moveTo>
                  <a:pt x="32391" y="0"/>
                </a:moveTo>
                <a:lnTo>
                  <a:pt x="32391" y="21600"/>
                </a:lnTo>
                <a:lnTo>
                  <a:pt x="30991" y="20200"/>
                </a:lnTo>
                <a:lnTo>
                  <a:pt x="30991" y="1400"/>
                </a:lnTo>
                <a:close/>
              </a:path>
              <a:path fill="darkenLess" w="32391" h="21600">
                <a:moveTo>
                  <a:pt x="32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1" y="20200"/>
                </a:lnTo>
                <a:close/>
              </a:path>
              <a:path fill="lighten" w="32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1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oneTexte 1"/>
          <p:cNvSpPr/>
          <p:nvPr/>
        </p:nvSpPr>
        <p:spPr>
          <a:xfrm>
            <a:off x="755640" y="2536920"/>
            <a:ext cx="7632720" cy="13129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Comic Sans MS"/>
              </a:rPr>
              <a:t>Jeux traditionnels au Cycl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Comic Sans MS"/>
              </a:rPr>
              <a:t>Une rencont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 rot="20092800">
            <a:off x="641520" y="547200"/>
            <a:ext cx="1360440" cy="157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2989440" y="4186080"/>
            <a:ext cx="2446200" cy="1839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 rot="1808400">
            <a:off x="6900840" y="555120"/>
            <a:ext cx="1317600" cy="1603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3870360" y="476280"/>
            <a:ext cx="12589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oneTexte 10"/>
          <p:cNvSpPr/>
          <p:nvPr/>
        </p:nvSpPr>
        <p:spPr>
          <a:xfrm>
            <a:off x="468360" y="622440"/>
            <a:ext cx="10810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Dur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10"/>
          <p:cNvSpPr/>
          <p:nvPr/>
        </p:nvSpPr>
        <p:spPr>
          <a:xfrm>
            <a:off x="1117440" y="1270080"/>
            <a:ext cx="2735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mps global impa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Texte 10"/>
          <p:cNvSpPr/>
          <p:nvPr/>
        </p:nvSpPr>
        <p:spPr>
          <a:xfrm>
            <a:off x="2557440" y="1917720"/>
            <a:ext cx="58323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Organisation de la classe : constitution d’équip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0"/>
          <p:cNvSpPr/>
          <p:nvPr/>
        </p:nvSpPr>
        <p:spPr>
          <a:xfrm>
            <a:off x="3708360" y="2565360"/>
            <a:ext cx="24494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hoisir les jeux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10"/>
          <p:cNvSpPr/>
          <p:nvPr/>
        </p:nvSpPr>
        <p:spPr>
          <a:xfrm>
            <a:off x="395280" y="3787920"/>
            <a:ext cx="2592360" cy="64260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Organisation génér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10"/>
          <p:cNvSpPr/>
          <p:nvPr/>
        </p:nvSpPr>
        <p:spPr>
          <a:xfrm>
            <a:off x="1116000" y="4354560"/>
            <a:ext cx="1150920" cy="6426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10"/>
          <p:cNvSpPr/>
          <p:nvPr/>
        </p:nvSpPr>
        <p:spPr>
          <a:xfrm>
            <a:off x="2482920" y="4363920"/>
            <a:ext cx="5473800" cy="6426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ecensement :du matériel des personnes/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10"/>
          <p:cNvSpPr/>
          <p:nvPr/>
        </p:nvSpPr>
        <p:spPr>
          <a:xfrm>
            <a:off x="2050920" y="5013360"/>
            <a:ext cx="1297080" cy="368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Disposit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115920"/>
          <a:ext cx="9144000" cy="6703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posit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sation de la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sation de la sé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à 6 équipes selon l’effectif de la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équipes vivent à tour de rôle toutes les situations propos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eu libre ou dirigé et ateli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à 6 équipes selon l’effectif de la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équipes vivent à tour de rôle ou parallèlement les deux situations propos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eu libre et/ou jeu dirig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équipes obligato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équipes vivent à tour de rôle ou parallèlement les situations propos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eu libre et/ou jeu dirig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395280" y="1125360"/>
            <a:ext cx="2376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necteur droit 6"/>
          <p:cNvSpPr/>
          <p:nvPr/>
        </p:nvSpPr>
        <p:spPr>
          <a:xfrm>
            <a:off x="1584360" y="1125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2"/>
          <p:cNvSpPr/>
          <p:nvPr/>
        </p:nvSpPr>
        <p:spPr>
          <a:xfrm>
            <a:off x="684360" y="148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3"/>
          <p:cNvSpPr/>
          <p:nvPr/>
        </p:nvSpPr>
        <p:spPr>
          <a:xfrm>
            <a:off x="1619280" y="148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e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95280" y="3500280"/>
            <a:ext cx="237636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onnecteur droit 8"/>
          <p:cNvSpPr/>
          <p:nvPr/>
        </p:nvSpPr>
        <p:spPr>
          <a:xfrm>
            <a:off x="1763640" y="350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nnecteur droit 9"/>
          <p:cNvSpPr/>
          <p:nvPr/>
        </p:nvSpPr>
        <p:spPr>
          <a:xfrm>
            <a:off x="1332000" y="350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oneTexte 10"/>
          <p:cNvSpPr/>
          <p:nvPr/>
        </p:nvSpPr>
        <p:spPr>
          <a:xfrm>
            <a:off x="53964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11"/>
          <p:cNvSpPr/>
          <p:nvPr/>
        </p:nvSpPr>
        <p:spPr>
          <a:xfrm>
            <a:off x="1908000" y="3860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395280" y="5373720"/>
            <a:ext cx="2376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onnecteur droit 13"/>
          <p:cNvSpPr/>
          <p:nvPr/>
        </p:nvSpPr>
        <p:spPr>
          <a:xfrm>
            <a:off x="1116000" y="5373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necteur droit 15"/>
          <p:cNvSpPr/>
          <p:nvPr/>
        </p:nvSpPr>
        <p:spPr>
          <a:xfrm>
            <a:off x="1908000" y="5373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16"/>
          <p:cNvSpPr/>
          <p:nvPr/>
        </p:nvSpPr>
        <p:spPr>
          <a:xfrm>
            <a:off x="468360" y="573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oneTexte 17"/>
          <p:cNvSpPr/>
          <p:nvPr/>
        </p:nvSpPr>
        <p:spPr>
          <a:xfrm>
            <a:off x="1332000" y="573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18"/>
          <p:cNvSpPr/>
          <p:nvPr/>
        </p:nvSpPr>
        <p:spPr>
          <a:xfrm>
            <a:off x="2124000" y="5724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onnecteur droit 19"/>
          <p:cNvSpPr/>
          <p:nvPr/>
        </p:nvSpPr>
        <p:spPr>
          <a:xfrm>
            <a:off x="1268280" y="5373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necteur droit 20"/>
          <p:cNvSpPr/>
          <p:nvPr/>
        </p:nvSpPr>
        <p:spPr>
          <a:xfrm>
            <a:off x="2060640" y="5373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Bouton d'action : Précédent 21">
            <a:hlinkClick r:id="rId1" action="ppaction://hlinksldjump"/>
          </p:cNvPr>
          <p:cNvSpPr/>
          <p:nvPr/>
        </p:nvSpPr>
        <p:spPr>
          <a:xfrm>
            <a:off x="8172360" y="623736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1"/>
          <p:cNvSpPr/>
          <p:nvPr/>
        </p:nvSpPr>
        <p:spPr>
          <a:xfrm>
            <a:off x="1979640" y="2492280"/>
            <a:ext cx="5113440" cy="7034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Comic Sans MS"/>
              </a:rPr>
              <a:t>Pourquoi des jeux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1647000" y="9079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Eprouver des émo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787360" y="141300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Construire sa motric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1120" y="1844640"/>
            <a:ext cx="37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Repérer et évaluer des progr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207240" y="4581360"/>
            <a:ext cx="53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Réfléchir (seul ou en groupe) à des straté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11280" y="3716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S’enrichir des relations construites avec les aut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971640" y="5445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Construire des comportements de plus en plus sécurisants à partir d’informations plus précises, et plus pertin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oneTexte 2"/>
          <p:cNvSpPr/>
          <p:nvPr/>
        </p:nvSpPr>
        <p:spPr>
          <a:xfrm>
            <a:off x="1332000" y="2421000"/>
            <a:ext cx="6553080" cy="13129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Comic Sans MS"/>
              </a:rPr>
              <a:t>Les fondements des jeux traditionnels/collecti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e 12"/>
          <p:cNvGrpSpPr/>
          <p:nvPr/>
        </p:nvGrpSpPr>
        <p:grpSpPr>
          <a:xfrm>
            <a:off x="826920" y="961920"/>
            <a:ext cx="4636440" cy="522360"/>
            <a:chOff x="826920" y="961920"/>
            <a:chExt cx="4636440" cy="522360"/>
          </a:xfrm>
        </p:grpSpPr>
        <p:sp>
          <p:nvSpPr>
            <p:cNvPr id="62" name="Rectangle à coins arrondis 8"/>
            <p:cNvSpPr/>
            <p:nvPr/>
          </p:nvSpPr>
          <p:spPr>
            <a:xfrm>
              <a:off x="826920" y="979200"/>
              <a:ext cx="4464360" cy="5050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858600" y="961920"/>
              <a:ext cx="46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70c0"/>
                  </a:solidFill>
                  <a:latin typeface="Comic Sans MS"/>
                </a:rPr>
                <a:t>Résoudre seul ou à plusieur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e 17"/>
          <p:cNvGrpSpPr/>
          <p:nvPr/>
        </p:nvGrpSpPr>
        <p:grpSpPr>
          <a:xfrm>
            <a:off x="826920" y="2349360"/>
            <a:ext cx="6850440" cy="503280"/>
            <a:chOff x="826920" y="2349360"/>
            <a:chExt cx="6850440" cy="503280"/>
          </a:xfrm>
        </p:grpSpPr>
        <p:sp>
          <p:nvSpPr>
            <p:cNvPr id="65" name="Rectangle à coins arrondis 10"/>
            <p:cNvSpPr/>
            <p:nvPr/>
          </p:nvSpPr>
          <p:spPr>
            <a:xfrm>
              <a:off x="826920" y="2349360"/>
              <a:ext cx="6626520" cy="503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832320" y="2349360"/>
              <a:ext cx="68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70c0"/>
                  </a:solidFill>
                  <a:latin typeface="Comic Sans MS"/>
                </a:rPr>
                <a:t>des problèmes posés par des déplacement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e 14"/>
          <p:cNvGrpSpPr/>
          <p:nvPr/>
        </p:nvGrpSpPr>
        <p:grpSpPr>
          <a:xfrm>
            <a:off x="782640" y="3687840"/>
            <a:ext cx="3502080" cy="459720"/>
            <a:chOff x="782640" y="3687840"/>
            <a:chExt cx="3502080" cy="459720"/>
          </a:xfrm>
        </p:grpSpPr>
        <p:sp>
          <p:nvSpPr>
            <p:cNvPr id="68" name="Rectangle à coins arrondis 13"/>
            <p:cNvSpPr/>
            <p:nvPr/>
          </p:nvSpPr>
          <p:spPr>
            <a:xfrm>
              <a:off x="826920" y="3687840"/>
              <a:ext cx="3457800" cy="43200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782640" y="3687840"/>
              <a:ext cx="34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70c0"/>
                  </a:solidFill>
                  <a:latin typeface="Comic Sans MS"/>
                </a:rPr>
                <a:t>pour atteindre un b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e 16"/>
          <p:cNvGrpSpPr/>
          <p:nvPr/>
        </p:nvGrpSpPr>
        <p:grpSpPr>
          <a:xfrm>
            <a:off x="835200" y="5013360"/>
            <a:ext cx="4005000" cy="459720"/>
            <a:chOff x="835200" y="5013360"/>
            <a:chExt cx="4005000" cy="459720"/>
          </a:xfrm>
        </p:grpSpPr>
        <p:sp>
          <p:nvSpPr>
            <p:cNvPr id="71" name="Rectangle à coins arrondis 15"/>
            <p:cNvSpPr/>
            <p:nvPr/>
          </p:nvSpPr>
          <p:spPr>
            <a:xfrm>
              <a:off x="835200" y="5013360"/>
              <a:ext cx="3887640" cy="43200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853920" y="5013360"/>
              <a:ext cx="39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70c0"/>
                  </a:solidFill>
                  <a:latin typeface="Comic Sans MS"/>
                </a:rPr>
                <a:t>en respectant des règl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e 4"/>
          <p:cNvGrpSpPr/>
          <p:nvPr/>
        </p:nvGrpSpPr>
        <p:grpSpPr>
          <a:xfrm>
            <a:off x="3635280" y="3141720"/>
            <a:ext cx="1873440" cy="647640"/>
            <a:chOff x="3635280" y="3141720"/>
            <a:chExt cx="1873440" cy="647640"/>
          </a:xfrm>
        </p:grpSpPr>
        <p:sp>
          <p:nvSpPr>
            <p:cNvPr id="74" name="Ellipse 2"/>
            <p:cNvSpPr/>
            <p:nvPr/>
          </p:nvSpPr>
          <p:spPr>
            <a:xfrm>
              <a:off x="3635280" y="3141720"/>
              <a:ext cx="1873440" cy="6476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"/>
            <p:cNvSpPr/>
            <p:nvPr/>
          </p:nvSpPr>
          <p:spPr>
            <a:xfrm>
              <a:off x="4000320" y="324504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70c0"/>
                  </a:solidFill>
                  <a:latin typeface="Comic Sans MS"/>
                </a:rPr>
                <a:t>un JE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e 21"/>
          <p:cNvGrpSpPr/>
          <p:nvPr/>
        </p:nvGrpSpPr>
        <p:grpSpPr>
          <a:xfrm>
            <a:off x="1042920" y="1052640"/>
            <a:ext cx="2869200" cy="1948680"/>
            <a:chOff x="1042920" y="1052640"/>
            <a:chExt cx="2869200" cy="1948680"/>
          </a:xfrm>
        </p:grpSpPr>
        <p:grpSp>
          <p:nvGrpSpPr>
            <p:cNvPr id="77" name="Groupe 7"/>
            <p:cNvGrpSpPr/>
            <p:nvPr/>
          </p:nvGrpSpPr>
          <p:grpSpPr>
            <a:xfrm>
              <a:off x="1042920" y="1052640"/>
              <a:ext cx="1378800" cy="504000"/>
              <a:chOff x="1042920" y="1052640"/>
              <a:chExt cx="1378800" cy="504000"/>
            </a:xfrm>
          </p:grpSpPr>
          <p:sp>
            <p:nvSpPr>
              <p:cNvPr id="78" name="Rectangle à coins arrondis 6"/>
              <p:cNvSpPr/>
              <p:nvPr/>
            </p:nvSpPr>
            <p:spPr>
              <a:xfrm>
                <a:off x="1042920" y="1052640"/>
                <a:ext cx="1224000" cy="504000"/>
              </a:xfrm>
              <a:prstGeom prst="roundRect">
                <a:avLst>
                  <a:gd name="adj" fmla="val 16667"/>
                </a:avLst>
              </a:prstGeom>
              <a:solidFill>
                <a:srgbClr val="b7dee8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5"/>
              <p:cNvSpPr/>
              <p:nvPr/>
            </p:nvSpPr>
            <p:spPr>
              <a:xfrm>
                <a:off x="1072080" y="1052640"/>
                <a:ext cx="134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70c0"/>
                    </a:solidFill>
                    <a:latin typeface="Comic Sans MS"/>
                  </a:rPr>
                  <a:t>un BU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Flèche droite 17"/>
            <p:cNvSpPr/>
            <p:nvPr/>
          </p:nvSpPr>
          <p:spPr>
            <a:xfrm rot="12832200">
              <a:off x="2244240" y="2135160"/>
              <a:ext cx="1690920" cy="431640"/>
            </a:xfrm>
            <a:prstGeom prst="rightArrow">
              <a:avLst>
                <a:gd name="adj1" fmla="val 50000"/>
                <a:gd name="adj2" fmla="val 50038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e 23"/>
          <p:cNvGrpSpPr/>
          <p:nvPr/>
        </p:nvGrpSpPr>
        <p:grpSpPr>
          <a:xfrm>
            <a:off x="684360" y="3695760"/>
            <a:ext cx="3239280" cy="2325600"/>
            <a:chOff x="684360" y="3695760"/>
            <a:chExt cx="3239280" cy="2325600"/>
          </a:xfrm>
        </p:grpSpPr>
        <p:grpSp>
          <p:nvGrpSpPr>
            <p:cNvPr id="82" name="Groupe 13"/>
            <p:cNvGrpSpPr/>
            <p:nvPr/>
          </p:nvGrpSpPr>
          <p:grpSpPr>
            <a:xfrm>
              <a:off x="684360" y="5373360"/>
              <a:ext cx="2447640" cy="648000"/>
              <a:chOff x="684360" y="5373360"/>
              <a:chExt cx="2447640" cy="648000"/>
            </a:xfrm>
          </p:grpSpPr>
          <p:sp>
            <p:nvSpPr>
              <p:cNvPr id="83" name="Rectangle à coins arrondis 12"/>
              <p:cNvSpPr/>
              <p:nvPr/>
            </p:nvSpPr>
            <p:spPr>
              <a:xfrm>
                <a:off x="684360" y="5373360"/>
                <a:ext cx="2447640" cy="648000"/>
              </a:xfrm>
              <a:prstGeom prst="roundRect">
                <a:avLst>
                  <a:gd name="adj" fmla="val 16667"/>
                </a:avLst>
              </a:prstGeom>
              <a:solidFill>
                <a:srgbClr val="b7dee8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1"/>
              <p:cNvSpPr/>
              <p:nvPr/>
            </p:nvSpPr>
            <p:spPr>
              <a:xfrm>
                <a:off x="847800" y="5445000"/>
                <a:ext cx="214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70c0"/>
                    </a:solidFill>
                    <a:latin typeface="Comic Sans MS"/>
                  </a:rPr>
                  <a:t>des ACT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lèche droite 18"/>
            <p:cNvSpPr/>
            <p:nvPr/>
          </p:nvSpPr>
          <p:spPr>
            <a:xfrm rot="7645800">
              <a:off x="2392920" y="4282200"/>
              <a:ext cx="1690560" cy="431640"/>
            </a:xfrm>
            <a:prstGeom prst="rightArrow">
              <a:avLst>
                <a:gd name="adj1" fmla="val 50000"/>
                <a:gd name="adj2" fmla="val 5002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e 22"/>
          <p:cNvGrpSpPr/>
          <p:nvPr/>
        </p:nvGrpSpPr>
        <p:grpSpPr>
          <a:xfrm>
            <a:off x="4383360" y="620640"/>
            <a:ext cx="4482720" cy="2519280"/>
            <a:chOff x="4383360" y="620640"/>
            <a:chExt cx="4482720" cy="2519280"/>
          </a:xfrm>
        </p:grpSpPr>
        <p:grpSp>
          <p:nvGrpSpPr>
            <p:cNvPr id="87" name="Groupe 10"/>
            <p:cNvGrpSpPr/>
            <p:nvPr/>
          </p:nvGrpSpPr>
          <p:grpSpPr>
            <a:xfrm>
              <a:off x="4383360" y="620640"/>
              <a:ext cx="4482720" cy="936000"/>
              <a:chOff x="4383360" y="620640"/>
              <a:chExt cx="4482720" cy="936000"/>
            </a:xfrm>
          </p:grpSpPr>
          <p:sp>
            <p:nvSpPr>
              <p:cNvPr id="88" name="Rectangle à coins arrondis 9"/>
              <p:cNvSpPr/>
              <p:nvPr/>
            </p:nvSpPr>
            <p:spPr>
              <a:xfrm>
                <a:off x="5148360" y="620640"/>
                <a:ext cx="3717720" cy="936000"/>
              </a:xfrm>
              <a:prstGeom prst="roundRect">
                <a:avLst>
                  <a:gd name="adj" fmla="val 16667"/>
                </a:avLst>
              </a:prstGeom>
              <a:solidFill>
                <a:srgbClr val="b7dee8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8"/>
              <p:cNvSpPr/>
              <p:nvPr/>
            </p:nvSpPr>
            <p:spPr>
              <a:xfrm>
                <a:off x="4383360" y="692280"/>
                <a:ext cx="3538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70c0"/>
                    </a:solidFill>
                    <a:latin typeface="Comic Sans MS"/>
                  </a:rPr>
                  <a:t>une CONFIGURATION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70c0"/>
                    </a:solidFill>
                    <a:latin typeface="Comic Sans MS"/>
                  </a:rPr>
                  <a:t>SPATIO-TEMPORELL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Flèche droite 19"/>
            <p:cNvSpPr/>
            <p:nvPr/>
          </p:nvSpPr>
          <p:spPr>
            <a:xfrm flipH="1" rot="8037600">
              <a:off x="5331960" y="2165400"/>
              <a:ext cx="1690920" cy="431640"/>
            </a:xfrm>
            <a:prstGeom prst="rightArrow">
              <a:avLst>
                <a:gd name="adj1" fmla="val 50000"/>
                <a:gd name="adj2" fmla="val 50020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e 24"/>
          <p:cNvGrpSpPr/>
          <p:nvPr/>
        </p:nvGrpSpPr>
        <p:grpSpPr>
          <a:xfrm>
            <a:off x="4787280" y="3716280"/>
            <a:ext cx="4032720" cy="2592360"/>
            <a:chOff x="4787280" y="3716280"/>
            <a:chExt cx="4032720" cy="2592360"/>
          </a:xfrm>
        </p:grpSpPr>
        <p:grpSp>
          <p:nvGrpSpPr>
            <p:cNvPr id="92" name="Groupe 16"/>
            <p:cNvGrpSpPr/>
            <p:nvPr/>
          </p:nvGrpSpPr>
          <p:grpSpPr>
            <a:xfrm>
              <a:off x="4787280" y="5372640"/>
              <a:ext cx="4032720" cy="936000"/>
              <a:chOff x="4787280" y="5372640"/>
              <a:chExt cx="4032720" cy="936000"/>
            </a:xfrm>
          </p:grpSpPr>
          <p:sp>
            <p:nvSpPr>
              <p:cNvPr id="93" name="Rectangle à coins arrondis 15"/>
              <p:cNvSpPr/>
              <p:nvPr/>
            </p:nvSpPr>
            <p:spPr>
              <a:xfrm>
                <a:off x="5364000" y="5372640"/>
                <a:ext cx="3456000" cy="936000"/>
              </a:xfrm>
              <a:prstGeom prst="roundRect">
                <a:avLst>
                  <a:gd name="adj" fmla="val 16667"/>
                </a:avLst>
              </a:prstGeom>
              <a:solidFill>
                <a:srgbClr val="b7dee8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14"/>
              <p:cNvSpPr/>
              <p:nvPr/>
            </p:nvSpPr>
            <p:spPr>
              <a:xfrm>
                <a:off x="4787280" y="5445000"/>
                <a:ext cx="3119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70c0"/>
                    </a:solidFill>
                    <a:latin typeface="Comic Sans MS"/>
                  </a:rPr>
                  <a:t>des RELATIONS à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70c0"/>
                    </a:solidFill>
                    <a:latin typeface="Comic Sans MS"/>
                  </a:rPr>
                  <a:t>METTRE EN ŒUVR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Flèche droite 20"/>
            <p:cNvSpPr/>
            <p:nvPr/>
          </p:nvSpPr>
          <p:spPr>
            <a:xfrm flipH="1" rot="13954200">
              <a:off x="5275080" y="4302720"/>
              <a:ext cx="1690560" cy="431640"/>
            </a:xfrm>
            <a:prstGeom prst="rightArrow">
              <a:avLst>
                <a:gd name="adj1" fmla="val 50000"/>
                <a:gd name="adj2" fmla="val 5002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50920" y="1442880"/>
            <a:ext cx="87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S’adapter à une / des rè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Reconnaître ses partenaires / ses advers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Agir / réagir au sein du gro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Décider / faire des choix dans l’action</a:t>
            </a: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Construire des habiletés spécifiques, des répon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  </a:t>
            </a:r>
            <a:r>
              <a:rPr b="1" lang="fr-FR" sz="2400" spc="-1" strike="noStrike">
                <a:solidFill>
                  <a:srgbClr val="0070c0"/>
                </a:solidFill>
                <a:latin typeface="Comic Sans MS"/>
              </a:rPr>
              <a:t>motrices particuli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268360" y="333360"/>
            <a:ext cx="4572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omic Sans MS"/>
              </a:rPr>
              <a:t>Que disent les programm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4360" y="1413000"/>
          <a:ext cx="8893440" cy="4759200"/>
        </p:xfrm>
        <a:graphic>
          <a:graphicData uri="http://schemas.openxmlformats.org/drawingml/2006/table">
            <a:tbl>
              <a:tblPr/>
              <a:tblGrid>
                <a:gridCol w="2963880"/>
                <a:gridCol w="2963880"/>
                <a:gridCol w="2965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YCL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YCL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YCL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opérer et s’opp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dividuel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 collecti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epter les contrai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ll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opérer et s’opp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dividuel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 collecti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opérer et s’opp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dividuel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 collecti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fr-FR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er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alier pour la maît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u socle comm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1" lang="fr-FR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alier pour la maît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u socle comm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étence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tiquer un j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 un sport collect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 en respectant les rè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étence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pecter les rè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la vie collective, nota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ns les pratiques spor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2362" t="15735" r="52457" b="11728"/>
          <a:stretch/>
        </p:blipFill>
        <p:spPr>
          <a:xfrm>
            <a:off x="0" y="863640"/>
            <a:ext cx="9109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6360"/>
          <a:ext cx="9204480" cy="6054840"/>
        </p:xfrm>
        <a:graphic>
          <a:graphicData uri="http://schemas.openxmlformats.org/drawingml/2006/table">
            <a:tbl>
              <a:tblPr/>
              <a:tblGrid>
                <a:gridCol w="1619280"/>
                <a:gridCol w="1620720"/>
                <a:gridCol w="1644840"/>
                <a:gridCol w="1620720"/>
                <a:gridCol w="1295280"/>
                <a:gridCol w="140364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d'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ô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âche terminale (cible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- Courir pour fui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- Courir pou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touch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- Transport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- Lancer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- Un seul rôle dans le jeu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Pas de limite de jeu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Espaces totalement séparés entre les équipes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ucun obje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Une multitude d'objets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Pas d'opposition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 u="sng">
                          <a:solidFill>
                            <a:srgbClr val="0070c0"/>
                          </a:solidFill>
                          <a:uFillTx/>
                          <a:latin typeface="Comic Sans MS"/>
                        </a:rPr>
                        <a:t>Simpl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Largeur(s) et  accessibilité de la (des) cible (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(ex : un joueur partenaire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Lancer/ attrap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un ball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- Dribbler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2 rôles différenciés mais en alternanc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(les temps d'arrêt permettent à l'enfant de reconnaître son rôle)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En partie limité (avec des refuge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Un objet à conquérir par équip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pposition limité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(en sous nombre ou en liberté de mouvement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 u="sng">
                          <a:solidFill>
                            <a:srgbClr val="0070c0"/>
                          </a:solidFill>
                          <a:uFillTx/>
                          <a:latin typeface="Comic Sans MS"/>
                        </a:rPr>
                        <a:t>Moyennement difficil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ccessibilité moyenne de la cible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Combiner des actions et des trajectoires 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Lancer/ attra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en déplacemen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- Dribbler pui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tirer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2 rôles dans le même temps de je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(l'enfant doit repérer quand il est attaquant ou défenseur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NB quelques jeux prévoient que l'on puisse tenir plusieurs rôles simultanémen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(ex : poules/renards/ vipère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Espace totalement limité et interpénétré (tous les joueurs sont sur le même espace de jeu)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Un objet à conquérir pour le jeu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pposition équilibrée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 u="sng">
                          <a:solidFill>
                            <a:srgbClr val="0070c0"/>
                          </a:solidFill>
                          <a:uFillTx/>
                          <a:latin typeface="Comic Sans MS"/>
                        </a:rPr>
                        <a:t>Complex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la cible est petite et défendue) </a:t>
                      </a:r>
                      <a:r>
                        <a:rPr b="1" lang="fr-FR" sz="11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3:09:05Z</dcterms:created>
  <dc:creator>Your User Name</dc:creator>
  <dc:description/>
  <dc:language>en-US</dc:language>
  <cp:lastModifiedBy>Your User Name</cp:lastModifiedBy>
  <dcterms:modified xsi:type="dcterms:W3CDTF">2011-11-30T08:01:12Z</dcterms:modified>
  <cp:revision>18</cp:revision>
  <dc:subject/>
  <dc:title>Diapositive 1</dc:title>
</cp:coreProperties>
</file>